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5A0-F899-47F7-8D95-0294338A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641-1734-45B0-B320-27532220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570-EB0D-44DC-AA6E-CDBC39DC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223-EF0A-4120-BB66-DA7E93E1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E744-A063-4E23-8B7B-374A81F1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02B3-2269-418E-9DBA-F7127581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A8CF-9343-4E31-8254-08A94E40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A677-A833-408A-BDC4-3BD311C0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C482-80B1-4041-ACA3-B6C2E303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E9FB-6CF5-4B7F-81CB-9C08717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C1B7-BB33-4737-97E5-2BE015E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1C1-D3FA-4068-9C2E-9AEEAE31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A5C5-5251-4718-BEC9-0625195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8F0F-608D-4896-AB6E-41D24CD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0CA4-12D2-4447-9FAD-C3A51418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55B2-1933-43DE-A6AE-B043D106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15A0-3683-4B07-BA7B-AC9369EC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013-725B-4454-A1DA-E2A0D17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D25-8A51-4347-BA63-417440C7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A35-EB45-4601-8C46-3624A8C5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C71-3A60-4E16-85D8-69794DD2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C85-2C59-4925-8BB1-BEDF0631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889-4075-4AE4-9229-1F13EA32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90A-CD07-4D47-9082-FB108688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44B6-CAD3-41D3-A7DC-A2723C28E2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502B-21C2-402A-89E0-5DA7174E0E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nglish-Sept. 10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i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 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lly’s t-shirt has the latin phrase cave canem (beware of the dog) and pictures of these three well known dogs a german shepherd an english sheepdog and a beag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ffaw:laugh::_______:t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:Century::cent: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nish 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2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ion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the questions fully, when finish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ck up pronoun pac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3:09:11Z</dcterms:created>
  <dc:creator>VMS</dc:creator>
  <dc:description/>
  <dc:language>en-US</dc:language>
  <cp:lastModifiedBy>VMS</cp:lastModifiedBy>
  <dcterms:modified xsi:type="dcterms:W3CDTF">2009-09-10T14:38:41Z</dcterms:modified>
  <cp:revision>3</cp:revision>
  <dc:subject/>
  <dc:title>English-Sept. 10</dc:title>
</cp:coreProperties>
</file>